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BAC-4DC1-4F31-B920-E2C5495C9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96A-5761-4A23-B0CB-D9BDA5981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908-ABE0-479A-8BFA-91BA076F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E190-1F73-4C50-AD53-6C6078714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2299-4E91-4212-8E5A-682C92F64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4B6-0404-4877-BD61-47E90E805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A99-732C-4123-A6E9-C7656B361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5271-7D3F-4927-887A-A55881ACA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971-5A2A-43C5-A83D-8EDCCF8C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8748-49BA-46D5-9D73-FCBBB0701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8E3-F15B-422B-BC0F-660F49F7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6A6-6A10-4F90-8398-8D4E639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838-F544-444E-A1C2-FA104EE7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C1E-E19D-4253-884D-57ADF5F3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FB4-CC5E-43D9-9002-876465C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289-3BF8-4314-9EBB-9FAEE9C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663-2DF4-4E56-86EF-3C54D93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F2F-52AE-4F51-91FC-B82DC08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906-0CD7-408F-92AA-9DBD5AE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826-9011-4F09-AC06-B5E78B0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22C-6509-4E90-A18A-8967350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0B8-E0C3-4145-BB15-D269726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0A2B-5601-4CA1-8AF2-976A8B17B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9D1-FB50-4412-B999-E2AB18E3A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" descr="HoleinOne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2 Bisector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5812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le in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304920" y="5334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know how many dimples are on a regulation golf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191120" y="5938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traight Connector 20"/>
          <p:cNvSpPr/>
          <p:nvPr/>
        </p:nvSpPr>
        <p:spPr>
          <a:xfrm flipH="1">
            <a:off x="4570560" y="1982880"/>
            <a:ext cx="28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4343400" y="19810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4"/>
          <p:cNvSpPr/>
          <p:nvPr/>
        </p:nvSpPr>
        <p:spPr>
          <a:xfrm flipV="1">
            <a:off x="2742480" y="1116000"/>
            <a:ext cx="1544760" cy="1093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7"/>
          <p:cNvSpPr/>
          <p:nvPr/>
        </p:nvSpPr>
        <p:spPr>
          <a:xfrm flipH="1" flipV="1">
            <a:off x="4343040" y="1066320"/>
            <a:ext cx="16002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 flipV="1">
            <a:off x="2744640" y="2207880"/>
            <a:ext cx="3200400" cy="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1"/>
          <p:cNvCxnSpPr/>
          <p:nvPr/>
        </p:nvCxnSpPr>
        <p:spPr>
          <a:xfrm flipV="1">
            <a:off x="4343400" y="763200"/>
            <a:ext cx="2160" cy="1753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1" name="TextBox 12"/>
          <p:cNvSpPr/>
          <p:nvPr/>
        </p:nvSpPr>
        <p:spPr>
          <a:xfrm>
            <a:off x="2514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886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715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4343400" y="76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>
            <a:off x="4267080" y="99072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1"/>
          <p:cNvSpPr/>
          <p:nvPr/>
        </p:nvSpPr>
        <p:spPr>
          <a:xfrm flipH="1">
            <a:off x="5103360" y="2057400"/>
            <a:ext cx="1800" cy="27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2"/>
          <p:cNvSpPr/>
          <p:nvPr/>
        </p:nvSpPr>
        <p:spPr>
          <a:xfrm flipH="1">
            <a:off x="3505320" y="2057400"/>
            <a:ext cx="1440" cy="27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6095880" y="914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erpendicular bis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32"/>
          <p:cNvSpPr/>
          <p:nvPr/>
        </p:nvSpPr>
        <p:spPr>
          <a:xfrm>
            <a:off x="6172200" y="9907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5"/>
          <p:cNvSpPr/>
          <p:nvPr/>
        </p:nvSpPr>
        <p:spPr>
          <a:xfrm>
            <a:off x="7620120" y="13716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8600" y="2895480"/>
            <a:ext cx="8686800" cy="129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2: Perpendicular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on the perpendicular bisector of a segment, then it is equidistant from the endpoints of the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4648320"/>
            <a:ext cx="8686800" cy="1295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3: Converse of the Perpendicular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equidistant from the endpoints of a segment, then it is on the perpendicular bisector of the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562720" y="506520"/>
            <a:ext cx="3124080" cy="246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049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0" y="304812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228600" y="3276720"/>
            <a:ext cx="8086680" cy="2492280"/>
            <a:chOff x="228600" y="3276720"/>
            <a:chExt cx="8086680" cy="249228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tretch/>
          </p:blipFill>
          <p:spPr>
            <a:xfrm>
              <a:off x="5486400" y="3809880"/>
              <a:ext cx="282888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28600" y="32767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, HI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457200" y="5410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04920" y="685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e perpendicular bisector of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4920" y="3581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of the perpendicular bis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352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-1)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8328" t="8328" r="8328" b="8328"/>
          <a:stretch/>
        </p:blipFill>
        <p:spPr>
          <a:xfrm>
            <a:off x="6400800" y="4191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0" y="350532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8328" t="8328" r="8328" b="8328"/>
          <a:stretch/>
        </p:blipFill>
        <p:spPr>
          <a:xfrm>
            <a:off x="6400800" y="1066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51460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(-2,-3), D( 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48006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34"/>
          <p:cNvSpPr/>
          <p:nvPr/>
        </p:nvSpPr>
        <p:spPr>
          <a:xfrm flipV="1">
            <a:off x="4039200" y="2212200"/>
            <a:ext cx="18324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36"/>
          <p:cNvSpPr/>
          <p:nvPr/>
        </p:nvSpPr>
        <p:spPr>
          <a:xfrm>
            <a:off x="4221720" y="2210400"/>
            <a:ext cx="136800" cy="18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7"/>
          <p:cNvSpPr/>
          <p:nvPr/>
        </p:nvSpPr>
        <p:spPr>
          <a:xfrm>
            <a:off x="3417120" y="1600200"/>
            <a:ext cx="1459080" cy="44604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9"/>
          <p:cNvSpPr/>
          <p:nvPr/>
        </p:nvSpPr>
        <p:spPr>
          <a:xfrm>
            <a:off x="3463920" y="1635120"/>
            <a:ext cx="1184400" cy="57456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463920" y="1635120"/>
            <a:ext cx="727200" cy="8794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3463200" y="1635120"/>
            <a:ext cx="422280" cy="11080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6"/>
          <p:cNvSpPr/>
          <p:nvPr/>
        </p:nvSpPr>
        <p:spPr>
          <a:xfrm>
            <a:off x="3463920" y="1635120"/>
            <a:ext cx="117360" cy="13366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8954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04920" y="914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find the distance from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6553080" y="990720"/>
            <a:ext cx="457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Straight Arrow Connector 9"/>
          <p:cNvCxnSpPr/>
          <p:nvPr/>
        </p:nvCxnSpPr>
        <p:spPr>
          <a:xfrm flipV="1">
            <a:off x="3276360" y="1828440"/>
            <a:ext cx="190548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2" name="Oval 10"/>
          <p:cNvSpPr/>
          <p:nvPr/>
        </p:nvSpPr>
        <p:spPr>
          <a:xfrm>
            <a:off x="3505320" y="2971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876920" y="1981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35053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3352680" y="15238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28600" y="3886200"/>
            <a:ext cx="868680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from a Point to a Line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ngth of the perpendicular segment from the point to the 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3"/>
          <p:cNvSpPr/>
          <p:nvPr/>
        </p:nvSpPr>
        <p:spPr>
          <a:xfrm>
            <a:off x="411480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5"/>
          <p:cNvSpPr/>
          <p:nvPr/>
        </p:nvSpPr>
        <p:spPr>
          <a:xfrm flipH="1" flipV="1">
            <a:off x="4038480" y="1599840"/>
            <a:ext cx="416160" cy="42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37"/>
          <p:cNvSpPr/>
          <p:nvPr/>
        </p:nvSpPr>
        <p:spPr>
          <a:xfrm rot="3105000">
            <a:off x="3185640" y="2271600"/>
            <a:ext cx="304920" cy="304920"/>
          </a:xfrm>
          <a:custGeom>
            <a:avLst/>
            <a:gdLst/>
            <a:ahLst/>
            <a:rect l="l" t="t" r="r" b="b"/>
            <a:pathLst>
              <a:path stroke="0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  <a:lnTo>
                  <a:pt x="152400" y="152400"/>
                </a:lnTo>
                <a:lnTo>
                  <a:pt x="152400" y="0"/>
                </a:lnTo>
                <a:close/>
              </a:path>
              <a:path fill="none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3200400" y="2133720"/>
            <a:ext cx="304920" cy="304560"/>
          </a:xfrm>
          <a:custGeom>
            <a:avLst/>
            <a:gdLst/>
            <a:ahLst/>
            <a:rect l="l" t="t" r="r" b="b"/>
            <a:pathLst>
              <a:path stroke="0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  <a:lnTo>
                  <a:pt x="152400" y="152400"/>
                </a:lnTo>
                <a:lnTo>
                  <a:pt x="152400" y="0"/>
                </a:lnTo>
                <a:close/>
              </a:path>
              <a:path fill="none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0"/>
          <p:cNvSpPr/>
          <p:nvPr/>
        </p:nvSpPr>
        <p:spPr>
          <a:xfrm flipV="1">
            <a:off x="4114440" y="2439000"/>
            <a:ext cx="48600" cy="223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1"/>
          <p:cNvSpPr/>
          <p:nvPr/>
        </p:nvSpPr>
        <p:spPr>
          <a:xfrm>
            <a:off x="4161600" y="2437920"/>
            <a:ext cx="222120" cy="4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7"/>
          <p:cNvSpPr/>
          <p:nvPr/>
        </p:nvSpPr>
        <p:spPr>
          <a:xfrm flipH="1">
            <a:off x="4021200" y="1749960"/>
            <a:ext cx="16848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8"/>
          <p:cNvSpPr/>
          <p:nvPr/>
        </p:nvSpPr>
        <p:spPr>
          <a:xfrm flipH="1" flipV="1">
            <a:off x="3869280" y="1734840"/>
            <a:ext cx="151200" cy="16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6"/>
          <p:cNvSpPr/>
          <p:nvPr/>
        </p:nvSpPr>
        <p:spPr>
          <a:xfrm flipH="1">
            <a:off x="4343400" y="2133720"/>
            <a:ext cx="141120" cy="57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V="1">
            <a:off x="2971800" y="990000"/>
            <a:ext cx="182952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8"/>
          <p:cNvCxnSpPr/>
          <p:nvPr/>
        </p:nvCxnSpPr>
        <p:spPr>
          <a:xfrm>
            <a:off x="2971800" y="2438280"/>
            <a:ext cx="236304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V="1">
            <a:off x="2971440" y="1828080"/>
            <a:ext cx="25916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Oval 11"/>
          <p:cNvSpPr/>
          <p:nvPr/>
        </p:nvSpPr>
        <p:spPr>
          <a:xfrm>
            <a:off x="4419720" y="121932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419720" y="2001960"/>
            <a:ext cx="131760" cy="131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25909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4572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55627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bisect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7924680" y="1027080"/>
                <a:ext cx="9144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C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2"/>
          <p:cNvSpPr/>
          <p:nvPr/>
        </p:nvSpPr>
        <p:spPr>
          <a:xfrm>
            <a:off x="228600" y="3352680"/>
            <a:ext cx="868680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4: Angle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on the bisector of an angle, then the point is equidistant from the sides of th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28600" y="4648320"/>
            <a:ext cx="8686800" cy="121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5: Converse of the Angle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n the interior of an angle is equidistant from the sides of the angle, then the point is on the angle bi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886200" cy="2654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491080" y="3352680"/>
            <a:ext cx="3652920" cy="3124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04920" y="35053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               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973080" y="3618000"/>
                <a:ext cx="12366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DE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Straight Connector 9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bluefin-tuna_greenpeace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95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2 Bisector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 5.2: p. 267 #6-15, 18-25, 48,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2286000" y="525780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na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8:41:23Z</dcterms:created>
  <dc:creator>Stephanie Ruth Rentel</dc:creator>
  <dc:description/>
  <dc:language>en-US</dc:language>
  <cp:lastModifiedBy>dasevedo</cp:lastModifiedBy>
  <cp:lastPrinted>2011-10-19T17:53:57Z</cp:lastPrinted>
  <dcterms:modified xsi:type="dcterms:W3CDTF">2012-09-20T18:53:34Z</dcterms:modified>
  <cp:revision>54</cp:revision>
  <dc:subject/>
  <dc:title>Slide 1</dc:title>
</cp:coreProperties>
</file>